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5CC7-C2E3-4058-8215-C43086481AE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alibri"/>
              </a:rPr>
              <a:t>Механическая энерг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4B0C-12BF-4AC0-B7F7-1B8C57404E7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2EE9-DCC5-4BAF-8CD0-4278237E4EF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 какой начальной скоростью надо бросить вниз мяч с высоты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чтобы он подпрыгнул на высоту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? Считать удар абсолютно упруг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A4AB-FA44-413D-9272-17BA40A2E2E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Виды уд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упругий 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Абсолютно 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упруги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3E06-750D-4607-8B18-6A180D57B2F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Механическая энергия не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Небольшая часть механической энергии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33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очти вся механическая энергия превращается во 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269D-E5E6-499C-B058-138B6AB2B48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BDF2-3EBE-49DE-AD92-CF26603083D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2D20-64EB-4EFA-81A8-E6DBF44097D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сохранения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решения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8D02-F7C7-4449-BF48-B68EA2D11F8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CA8D-399E-445F-BE7C-A79617F6BCF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БОЗНАЧ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98B1-76F8-4FCC-8705-52065559CBD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Кинетическ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движущегос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7EFE-8069-4D56-BA2E-D43A9B4AE20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энергия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B80C-C1B8-476D-9DD2-56D8B755E6F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отенциальная энергия упругой де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D137-979B-44EE-8D64-7BBF7A63827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Закон сохранен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я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энергии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замкнутой системе, в которой действуют консервативные силы, энергия ни от куда не возникает и ни куда не исчезает, а лишь 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переход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 одного вида в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4ADE-7A57-45A5-88F8-F429826DDC1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E29-D4FA-4DC2-94D7-BB02843C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B4E-7A0C-4D49-983C-7ED0793F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34E-8A35-450A-9518-93D19AE7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010-06C3-4AFF-8732-12EBC520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A1BF-DE37-4AD2-8356-B69AAE92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BCC2-CD0C-41BD-B23D-4B4D70AE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AD65-6F11-480C-8A6D-3595AB2F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F5EC-C38A-4443-88A4-BA9BFC9A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C7C5-601D-43EA-9189-5E16A9C7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4B09-514A-455C-9209-908EDA7B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1E77-2F32-47D6-A40F-24CA5FE9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7AE-019F-4317-A626-CA760D0E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439E-3C23-4E62-A2A3-A005C821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3B5C-F6DD-4DDC-A1A5-533EB265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80A6-DD9D-4507-94BB-E272FC3C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DA0A-7DD2-4874-A577-89473329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D675-BF73-47EB-A9B5-6637CB8F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1BD-857B-4D0A-BE6F-C2C1AA5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9AF-BCE2-4646-BCFD-E552393B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A04-5E5B-4E4A-90A3-B443F8E4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44E-4E2C-45DD-ADE0-33135404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DF5-1BE7-42F7-8900-77931AA8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A2D-B880-4B25-9DC5-BBD8E12D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281B-DE4D-42A8-BA51-7B7F549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6341-3637-469C-908D-7CBC747FE0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7390-FDDF-45E3-B199-7B84EA9390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12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66"/>
                </a:solidFill>
                <a:latin typeface="Comic Sans MS"/>
              </a:rPr>
              <a:t>Механическая энергия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omic Sans MS"/>
              </a:rPr>
              <a:t>Закон сохранения энерг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543564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невская О.Ю. 83 школа г.Санкт-Петербур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адение.avi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858000" cy="621504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2"/>
          <p:cNvSpPr/>
          <p:nvPr/>
        </p:nvSpPr>
        <p:spPr>
          <a:xfrm>
            <a:off x="108000" y="1413000"/>
            <a:ext cx="8567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физике консервати́вные си́лы (потенциальные силы) — силы, работа которых не зависит от формы траектории (зависит только от начальной и конечной точки приложения сил). Отсюда следует следующее определение: консервативные силы — такие силы, работа по любой замкнутой траектории которых равна 0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Управляющая кнопка: возврат 3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647640" cy="692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92280"/>
              <a:gd name="textAreaBottom" fmla="*/ 650520 h 692280"/>
            </a:gdLst>
            <a:ahLst/>
            <a:rect l="textAreaLeft" t="textAreaTop" r="textAreaRight" b="textAreaBottom"/>
            <a:pathLst>
              <a:path w="21600" h="23088">
                <a:moveTo>
                  <a:pt x="0" y="0"/>
                </a:moveTo>
                <a:lnTo>
                  <a:pt x="21600" y="0"/>
                </a:lnTo>
                <a:lnTo>
                  <a:pt x="21600" y="23088"/>
                </a:lnTo>
                <a:lnTo>
                  <a:pt x="0" y="23088"/>
                </a:lnTo>
                <a:close/>
              </a:path>
              <a:path fill="lightenLess" w="21600" h="230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88">
                <a:moveTo>
                  <a:pt x="21600" y="0"/>
                </a:moveTo>
                <a:lnTo>
                  <a:pt x="21600" y="23088"/>
                </a:lnTo>
                <a:lnTo>
                  <a:pt x="20200" y="21688"/>
                </a:lnTo>
                <a:lnTo>
                  <a:pt x="20200" y="1400"/>
                </a:lnTo>
                <a:close/>
              </a:path>
              <a:path fill="darkenLess" w="21600" h="23088">
                <a:moveTo>
                  <a:pt x="21600" y="23088"/>
                </a:moveTo>
                <a:lnTo>
                  <a:pt x="0" y="23088"/>
                </a:lnTo>
                <a:lnTo>
                  <a:pt x="1400" y="21688"/>
                </a:lnTo>
                <a:lnTo>
                  <a:pt x="20200" y="21688"/>
                </a:lnTo>
                <a:close/>
              </a:path>
              <a:path fill="lighten" w="21600" h="23088">
                <a:moveTo>
                  <a:pt x="0" y="230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88"/>
                </a:lnTo>
                <a:close/>
              </a:path>
              <a:path fill="darken" w="21600" h="23088">
                <a:moveTo>
                  <a:pt x="3794" y="8237"/>
                </a:moveTo>
                <a:lnTo>
                  <a:pt x="7301" y="8237"/>
                </a:lnTo>
                <a:lnTo>
                  <a:pt x="7301" y="13572"/>
                </a:lnTo>
                <a:cubicBezTo>
                  <a:pt x="7301" y="14495"/>
                  <a:pt x="8102" y="15226"/>
                  <a:pt x="9138" y="15226"/>
                </a:cubicBezTo>
                <a:lnTo>
                  <a:pt x="10800" y="15226"/>
                </a:lnTo>
                <a:cubicBezTo>
                  <a:pt x="11836" y="15226"/>
                  <a:pt x="12636" y="14495"/>
                  <a:pt x="12636" y="13572"/>
                </a:cubicBezTo>
                <a:lnTo>
                  <a:pt x="12636" y="8237"/>
                </a:lnTo>
                <a:lnTo>
                  <a:pt x="10800" y="8237"/>
                </a:lnTo>
                <a:lnTo>
                  <a:pt x="14308" y="4729"/>
                </a:lnTo>
                <a:lnTo>
                  <a:pt x="17981" y="8237"/>
                </a:lnTo>
                <a:lnTo>
                  <a:pt x="16144" y="8237"/>
                </a:lnTo>
                <a:lnTo>
                  <a:pt x="16144" y="13572"/>
                </a:lnTo>
                <a:cubicBezTo>
                  <a:pt x="16144" y="16340"/>
                  <a:pt x="13568" y="18899"/>
                  <a:pt x="10800" y="18899"/>
                </a:cubicBezTo>
                <a:lnTo>
                  <a:pt x="9138" y="18899"/>
                </a:lnTo>
                <a:cubicBezTo>
                  <a:pt x="6370" y="18899"/>
                  <a:pt x="3794" y="16340"/>
                  <a:pt x="3794" y="13572"/>
                </a:cubicBez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50920" y="836640"/>
            <a:ext cx="785016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 какой начальной скоростью надо бросить вниз мяч с высоты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, чтобы он подпрыгнул на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Считать удар абсолютно упруг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3068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042920" y="3500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90000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874800" y="4653000"/>
                <a:ext cx="1562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Line 9"/>
          <p:cNvSpPr/>
          <p:nvPr/>
        </p:nvSpPr>
        <p:spPr>
          <a:xfrm>
            <a:off x="2411280" y="2997360"/>
            <a:ext cx="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611280" y="414972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492360" y="292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3059280" y="6308640"/>
            <a:ext cx="525780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3132000" y="4869000"/>
            <a:ext cx="8636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6732720" y="3357720"/>
            <a:ext cx="151128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3995640" y="4869000"/>
            <a:ext cx="0" cy="143964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6732720" y="3357720"/>
            <a:ext cx="0" cy="295092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3492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6732720" y="4653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20"/>
          <p:cNvSpPr/>
          <p:nvPr/>
        </p:nvSpPr>
        <p:spPr>
          <a:xfrm>
            <a:off x="4140360" y="4653000"/>
            <a:ext cx="43164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21"/>
          <p:cNvSpPr/>
          <p:nvPr/>
        </p:nvSpPr>
        <p:spPr>
          <a:xfrm>
            <a:off x="5003640" y="5877000"/>
            <a:ext cx="432000" cy="431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22"/>
          <p:cNvSpPr/>
          <p:nvPr/>
        </p:nvSpPr>
        <p:spPr>
          <a:xfrm>
            <a:off x="6156360" y="3213000"/>
            <a:ext cx="431640" cy="43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3635280" y="42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о+Ек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565164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50872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Виды удар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Абсолютно упругий 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Абсолютно 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Неупругий удар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3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250920" y="620640"/>
            <a:ext cx="81374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Механическая энергия не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Небольшая часть механической энергии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Почти вся механическая энергия превращается во внутренню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7940520" y="5950080"/>
            <a:ext cx="1224000" cy="907920"/>
          </a:xfrm>
          <a:custGeom>
            <a:avLst/>
            <a:gdLst>
              <a:gd name="textAreaLeft" fmla="*/ 58680 w 1224000"/>
              <a:gd name="textAreaRight" fmla="*/ 1165320 w 1224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9117" h="21600">
                <a:moveTo>
                  <a:pt x="0" y="0"/>
                </a:moveTo>
                <a:lnTo>
                  <a:pt x="29117" y="0"/>
                </a:lnTo>
                <a:lnTo>
                  <a:pt x="29117" y="21600"/>
                </a:lnTo>
                <a:lnTo>
                  <a:pt x="0" y="21600"/>
                </a:lnTo>
                <a:close/>
              </a:path>
              <a:path fill="lightenLess" w="29117" h="21600">
                <a:moveTo>
                  <a:pt x="0" y="0"/>
                </a:moveTo>
                <a:lnTo>
                  <a:pt x="29117" y="0"/>
                </a:lnTo>
                <a:lnTo>
                  <a:pt x="27717" y="1400"/>
                </a:lnTo>
                <a:lnTo>
                  <a:pt x="1400" y="1400"/>
                </a:lnTo>
                <a:close/>
              </a:path>
              <a:path fill="darken" w="29117" h="21600">
                <a:moveTo>
                  <a:pt x="29117" y="0"/>
                </a:moveTo>
                <a:lnTo>
                  <a:pt x="29117" y="21600"/>
                </a:lnTo>
                <a:lnTo>
                  <a:pt x="27717" y="20200"/>
                </a:lnTo>
                <a:lnTo>
                  <a:pt x="27717" y="1400"/>
                </a:lnTo>
                <a:close/>
              </a:path>
              <a:path fill="darkenLess" w="29117" h="21600">
                <a:moveTo>
                  <a:pt x="29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17" y="20200"/>
                </a:lnTo>
                <a:close/>
              </a:path>
              <a:path fill="lighten" w="29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17" h="21600">
                <a:moveTo>
                  <a:pt x="7552" y="7493"/>
                </a:moveTo>
                <a:lnTo>
                  <a:pt x="11059" y="7493"/>
                </a:lnTo>
                <a:lnTo>
                  <a:pt x="11059" y="12828"/>
                </a:lnTo>
                <a:cubicBezTo>
                  <a:pt x="11059" y="13751"/>
                  <a:pt x="11860" y="14482"/>
                  <a:pt x="12896" y="14482"/>
                </a:cubicBezTo>
                <a:lnTo>
                  <a:pt x="14558" y="14482"/>
                </a:lnTo>
                <a:cubicBezTo>
                  <a:pt x="15594" y="14482"/>
                  <a:pt x="16395" y="13751"/>
                  <a:pt x="16395" y="12828"/>
                </a:cubicBezTo>
                <a:lnTo>
                  <a:pt x="16395" y="7493"/>
                </a:lnTo>
                <a:lnTo>
                  <a:pt x="14558" y="7493"/>
                </a:lnTo>
                <a:lnTo>
                  <a:pt x="18066" y="3985"/>
                </a:lnTo>
                <a:lnTo>
                  <a:pt x="21739" y="7493"/>
                </a:lnTo>
                <a:lnTo>
                  <a:pt x="19902" y="7493"/>
                </a:lnTo>
                <a:lnTo>
                  <a:pt x="19902" y="12828"/>
                </a:lnTo>
                <a:cubicBezTo>
                  <a:pt x="19902" y="15596"/>
                  <a:pt x="17326" y="18155"/>
                  <a:pt x="14558" y="18155"/>
                </a:cubicBezTo>
                <a:lnTo>
                  <a:pt x="12896" y="18155"/>
                </a:lnTo>
                <a:cubicBezTo>
                  <a:pt x="10128" y="18155"/>
                  <a:pt x="7552" y="15596"/>
                  <a:pt x="7552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Управляющая кнопка: домой 1">
            <a:hlinkClick r:id="rId2" action="ppaction://hlinksldjump"/>
          </p:cNvPr>
          <p:cNvSpPr/>
          <p:nvPr/>
        </p:nvSpPr>
        <p:spPr>
          <a:xfrm>
            <a:off x="6875640" y="5950080"/>
            <a:ext cx="1009440" cy="907920"/>
          </a:xfrm>
          <a:custGeom>
            <a:avLst/>
            <a:gdLst>
              <a:gd name="textAreaLeft" fmla="*/ 58680 w 1009440"/>
              <a:gd name="textAreaRight" fmla="*/ 950760 w 10094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014" h="21600">
                <a:moveTo>
                  <a:pt x="0" y="0"/>
                </a:moveTo>
                <a:lnTo>
                  <a:pt x="24014" y="0"/>
                </a:lnTo>
                <a:lnTo>
                  <a:pt x="24014" y="21600"/>
                </a:lnTo>
                <a:lnTo>
                  <a:pt x="0" y="21600"/>
                </a:lnTo>
                <a:close/>
              </a:path>
              <a:path fill="lightenLess" w="24014" h="21600">
                <a:moveTo>
                  <a:pt x="0" y="0"/>
                </a:moveTo>
                <a:lnTo>
                  <a:pt x="24014" y="0"/>
                </a:lnTo>
                <a:lnTo>
                  <a:pt x="22614" y="1400"/>
                </a:lnTo>
                <a:lnTo>
                  <a:pt x="1400" y="1400"/>
                </a:lnTo>
                <a:close/>
              </a:path>
              <a:path fill="darken" w="24014" h="21600">
                <a:moveTo>
                  <a:pt x="24014" y="0"/>
                </a:moveTo>
                <a:lnTo>
                  <a:pt x="24014" y="21600"/>
                </a:lnTo>
                <a:lnTo>
                  <a:pt x="22614" y="20200"/>
                </a:lnTo>
                <a:lnTo>
                  <a:pt x="22614" y="1400"/>
                </a:lnTo>
                <a:close/>
              </a:path>
              <a:path fill="darkenLess" w="24014" h="21600">
                <a:moveTo>
                  <a:pt x="2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14" y="20200"/>
                </a:lnTo>
                <a:close/>
              </a:path>
              <a:path fill="lighten" w="2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14" h="21600">
                <a:moveTo>
                  <a:pt x="12007" y="3837"/>
                </a:moveTo>
                <a:lnTo>
                  <a:pt x="14583" y="6448"/>
                </a:ln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lnTo>
                  <a:pt x="18970" y="10800"/>
                </a:lnTo>
                <a:lnTo>
                  <a:pt x="17316" y="10800"/>
                </a:lnTo>
                <a:lnTo>
                  <a:pt x="17316" y="17989"/>
                </a:lnTo>
                <a:lnTo>
                  <a:pt x="6698" y="17989"/>
                </a:lnTo>
                <a:lnTo>
                  <a:pt x="6698" y="10800"/>
                </a:lnTo>
                <a:lnTo>
                  <a:pt x="5044" y="10800"/>
                </a:lnTo>
                <a:close/>
              </a:path>
              <a:path fill="darkenLess" w="24014" h="21600">
                <a:moveTo>
                  <a:pt x="14583" y="6448"/>
                </a:moveTo>
                <a:lnTo>
                  <a:pt x="14583" y="4707"/>
                </a:lnTo>
                <a:lnTo>
                  <a:pt x="16359" y="4707"/>
                </a:lnTo>
                <a:lnTo>
                  <a:pt x="16359" y="8224"/>
                </a:lnTo>
                <a:close/>
              </a:path>
              <a:path fill="darkenLess" w="24014" h="21600">
                <a:moveTo>
                  <a:pt x="11085" y="14299"/>
                </a:moveTo>
                <a:lnTo>
                  <a:pt x="12930" y="14299"/>
                </a:lnTo>
                <a:lnTo>
                  <a:pt x="12930" y="17989"/>
                </a:lnTo>
                <a:lnTo>
                  <a:pt x="17316" y="17989"/>
                </a:lnTo>
                <a:lnTo>
                  <a:pt x="17316" y="10800"/>
                </a:lnTo>
                <a:lnTo>
                  <a:pt x="6698" y="10800"/>
                </a:lnTo>
                <a:lnTo>
                  <a:pt x="6698" y="17989"/>
                </a:lnTo>
                <a:lnTo>
                  <a:pt x="11085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1476360" y="765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 +Ек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3995640" y="10526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643280" y="765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580000" y="1052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08472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26880" y="1700280"/>
                <a:ext cx="834552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m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2"/>
              <p:cNvSpPr txBox="1"/>
              <p:nvPr/>
            </p:nvSpPr>
            <p:spPr>
              <a:xfrm>
                <a:off x="1496880" y="3219480"/>
                <a:ext cx="55738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9" name="Line 13"/>
          <p:cNvSpPr/>
          <p:nvPr/>
        </p:nvSpPr>
        <p:spPr>
          <a:xfrm>
            <a:off x="4427640" y="450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Управляющая кнопка: возврат 1">
            <a:hlinkClick r:id="rId1" action="ppaction://hlinksldjump"/>
          </p:cNvPr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7493"/>
                </a:moveTo>
                <a:lnTo>
                  <a:pt x="8409" y="7493"/>
                </a:lnTo>
                <a:lnTo>
                  <a:pt x="8409" y="12828"/>
                </a:lnTo>
                <a:cubicBezTo>
                  <a:pt x="8409" y="13751"/>
                  <a:pt x="9210" y="14482"/>
                  <a:pt x="10246" y="14482"/>
                </a:cubicBezTo>
                <a:lnTo>
                  <a:pt x="11908" y="14482"/>
                </a:lnTo>
                <a:cubicBezTo>
                  <a:pt x="12944" y="14482"/>
                  <a:pt x="13745" y="13751"/>
                  <a:pt x="13745" y="12828"/>
                </a:cubicBezTo>
                <a:lnTo>
                  <a:pt x="13745" y="7493"/>
                </a:lnTo>
                <a:lnTo>
                  <a:pt x="11908" y="7493"/>
                </a:lnTo>
                <a:lnTo>
                  <a:pt x="15416" y="3985"/>
                </a:lnTo>
                <a:lnTo>
                  <a:pt x="19089" y="7493"/>
                </a:lnTo>
                <a:lnTo>
                  <a:pt x="17252" y="7493"/>
                </a:lnTo>
                <a:lnTo>
                  <a:pt x="17252" y="12828"/>
                </a:lnTo>
                <a:cubicBezTo>
                  <a:pt x="17252" y="15596"/>
                  <a:pt x="14676" y="18155"/>
                  <a:pt x="11908" y="18155"/>
                </a:cubicBezTo>
                <a:lnTo>
                  <a:pt x="10246" y="18155"/>
                </a:lnTo>
                <a:cubicBezTo>
                  <a:pt x="7478" y="18155"/>
                  <a:pt x="4902" y="15596"/>
                  <a:pt x="4902" y="12828"/>
                </a:cubicBezTo>
                <a:close/>
              </a:path>
            </a:pathLst>
          </a:custGeom>
          <a:solidFill>
            <a:srgbClr val="915121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7326 0 E">
                                      <p:cBhvr>
                                        <p:cTn id="375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трение и Е.avi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810400" cy="476892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9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5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250920" y="765000"/>
            <a:ext cx="7850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ча №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Санки с седоком общей массой 100 кг съезжают с горы высотой 8 м и длиной 100 м.Какова средняя сила сопротивления движению, если в конце горы сани достигли скорости 10м/с, начальная скорость равна 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2916360" y="4221000"/>
            <a:ext cx="4608360" cy="208764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6"/>
          <p:cNvSpPr/>
          <p:nvPr/>
        </p:nvSpPr>
        <p:spPr>
          <a:xfrm rot="1420200">
            <a:off x="2987280" y="3933360"/>
            <a:ext cx="790560" cy="50508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7"/>
          <p:cNvSpPr/>
          <p:nvPr/>
        </p:nvSpPr>
        <p:spPr>
          <a:xfrm rot="1420200">
            <a:off x="6732720" y="5589360"/>
            <a:ext cx="790560" cy="504720"/>
          </a:xfrm>
          <a:prstGeom prst="rect">
            <a:avLst/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340000" y="4941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72000" y="522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348000" y="3213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7093080" y="5013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6948360" y="486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395280" y="62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395280" y="1052640"/>
            <a:ext cx="165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=100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г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=8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6"/>
              <p:cNvSpPr txBox="1"/>
              <p:nvPr/>
            </p:nvSpPr>
            <p:spPr>
              <a:xfrm>
                <a:off x="378000" y="2565360"/>
                <a:ext cx="1981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м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7"/>
              <p:cNvSpPr txBox="1"/>
              <p:nvPr/>
            </p:nvSpPr>
            <p:spPr>
              <a:xfrm>
                <a:off x="452520" y="2997360"/>
                <a:ext cx="11127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Text Box 9"/>
          <p:cNvSpPr/>
          <p:nvPr/>
        </p:nvSpPr>
        <p:spPr>
          <a:xfrm>
            <a:off x="468360" y="36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йт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468360" y="414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c-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2411280" y="549360"/>
            <a:ext cx="0" cy="43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324000" y="364500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3419640" y="4762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484360" y="1268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п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3780000" y="1628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500720" y="126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Ек+А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7"/>
              <p:cNvSpPr txBox="1"/>
              <p:nvPr/>
            </p:nvSpPr>
            <p:spPr>
              <a:xfrm>
                <a:off x="2413080" y="2060640"/>
                <a:ext cx="680220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h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mυ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8"/>
              <p:cNvSpPr txBox="1"/>
              <p:nvPr/>
            </p:nvSpPr>
            <p:spPr>
              <a:xfrm>
                <a:off x="3400560" y="3297240"/>
                <a:ext cx="33512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9"/>
              <p:cNvSpPr txBox="1"/>
              <p:nvPr/>
            </p:nvSpPr>
            <p:spPr>
              <a:xfrm>
                <a:off x="1920960" y="5013360"/>
                <a:ext cx="6559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Line 20"/>
          <p:cNvSpPr/>
          <p:nvPr/>
        </p:nvSpPr>
        <p:spPr>
          <a:xfrm>
            <a:off x="7667640" y="595008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AutoShape 22"/>
          <p:cNvSpPr/>
          <p:nvPr/>
        </p:nvSpPr>
        <p:spPr>
          <a:xfrm>
            <a:off x="8366040" y="6237360"/>
            <a:ext cx="720720" cy="620640"/>
          </a:xfrm>
          <a:custGeom>
            <a:avLst/>
            <a:gdLst>
              <a:gd name="textAreaLeft" fmla="*/ 39960 w 720720"/>
              <a:gd name="textAreaRight" fmla="*/ 680760 w 720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81" h="21600">
                <a:moveTo>
                  <a:pt x="0" y="0"/>
                </a:moveTo>
                <a:lnTo>
                  <a:pt x="25081" y="0"/>
                </a:lnTo>
                <a:lnTo>
                  <a:pt x="25081" y="21600"/>
                </a:lnTo>
                <a:lnTo>
                  <a:pt x="0" y="21600"/>
                </a:lnTo>
                <a:close/>
              </a:path>
              <a:path fill="lightenLess" w="25081" h="21600">
                <a:moveTo>
                  <a:pt x="0" y="0"/>
                </a:moveTo>
                <a:lnTo>
                  <a:pt x="25081" y="0"/>
                </a:lnTo>
                <a:lnTo>
                  <a:pt x="23681" y="1400"/>
                </a:lnTo>
                <a:lnTo>
                  <a:pt x="1400" y="1400"/>
                </a:lnTo>
                <a:close/>
              </a:path>
              <a:path fill="darken" w="25081" h="21600">
                <a:moveTo>
                  <a:pt x="25081" y="0"/>
                </a:moveTo>
                <a:lnTo>
                  <a:pt x="25081" y="21600"/>
                </a:lnTo>
                <a:lnTo>
                  <a:pt x="23681" y="20200"/>
                </a:lnTo>
                <a:lnTo>
                  <a:pt x="23681" y="1400"/>
                </a:lnTo>
                <a:close/>
              </a:path>
              <a:path fill="darkenLess" w="25081" h="21600">
                <a:moveTo>
                  <a:pt x="25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1" y="20200"/>
                </a:lnTo>
                <a:close/>
              </a:path>
              <a:path fill="lighten" w="25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1" h="21600">
                <a:moveTo>
                  <a:pt x="5534" y="7493"/>
                </a:moveTo>
                <a:lnTo>
                  <a:pt x="9042" y="7493"/>
                </a:lnTo>
                <a:lnTo>
                  <a:pt x="9042" y="12828"/>
                </a:lnTo>
                <a:cubicBezTo>
                  <a:pt x="9042" y="13751"/>
                  <a:pt x="9842" y="14482"/>
                  <a:pt x="10878" y="14482"/>
                </a:cubicBezTo>
                <a:lnTo>
                  <a:pt x="12541" y="14482"/>
                </a:lnTo>
                <a:cubicBezTo>
                  <a:pt x="13576" y="14482"/>
                  <a:pt x="14377" y="13751"/>
                  <a:pt x="14377" y="12828"/>
                </a:cubicBezTo>
                <a:lnTo>
                  <a:pt x="14377" y="7493"/>
                </a:lnTo>
                <a:lnTo>
                  <a:pt x="12541" y="7493"/>
                </a:lnTo>
                <a:lnTo>
                  <a:pt x="16048" y="3985"/>
                </a:lnTo>
                <a:lnTo>
                  <a:pt x="19721" y="7493"/>
                </a:lnTo>
                <a:lnTo>
                  <a:pt x="17885" y="7493"/>
                </a:lnTo>
                <a:lnTo>
                  <a:pt x="17885" y="12828"/>
                </a:lnTo>
                <a:cubicBezTo>
                  <a:pt x="17885" y="15596"/>
                  <a:pt x="15308" y="18155"/>
                  <a:pt x="12541" y="18155"/>
                </a:cubicBezTo>
                <a:lnTo>
                  <a:pt x="10878" y="18155"/>
                </a:lnTo>
                <a:cubicBezTo>
                  <a:pt x="8110" y="18155"/>
                  <a:pt x="5534" y="15596"/>
                  <a:pt x="5534" y="12828"/>
                </a:cubicBezTo>
                <a:close/>
              </a:path>
            </a:pathLst>
          </a:custGeom>
          <a:solidFill>
            <a:srgbClr val="915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Управляющая кнопка: домой 1"/>
          <p:cNvSpPr/>
          <p:nvPr/>
        </p:nvSpPr>
        <p:spPr>
          <a:xfrm>
            <a:off x="34920" y="6237360"/>
            <a:ext cx="649440" cy="620640"/>
          </a:xfrm>
          <a:custGeom>
            <a:avLst/>
            <a:gdLst>
              <a:gd name="textAreaLeft" fmla="*/ 39960 w 649440"/>
              <a:gd name="textAreaRight" fmla="*/ 609480 w 6494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602" h="21600">
                <a:moveTo>
                  <a:pt x="0" y="0"/>
                </a:moveTo>
                <a:lnTo>
                  <a:pt x="22602" y="0"/>
                </a:lnTo>
                <a:lnTo>
                  <a:pt x="22602" y="21600"/>
                </a:lnTo>
                <a:lnTo>
                  <a:pt x="0" y="21600"/>
                </a:lnTo>
                <a:close/>
              </a:path>
              <a:path fill="lightenLess" w="22602" h="21600">
                <a:moveTo>
                  <a:pt x="0" y="0"/>
                </a:moveTo>
                <a:lnTo>
                  <a:pt x="22602" y="0"/>
                </a:lnTo>
                <a:lnTo>
                  <a:pt x="21202" y="1400"/>
                </a:lnTo>
                <a:lnTo>
                  <a:pt x="1400" y="1400"/>
                </a:lnTo>
                <a:close/>
              </a:path>
              <a:path fill="darken" w="22602" h="21600">
                <a:moveTo>
                  <a:pt x="22602" y="0"/>
                </a:moveTo>
                <a:lnTo>
                  <a:pt x="22602" y="21600"/>
                </a:lnTo>
                <a:lnTo>
                  <a:pt x="21202" y="20200"/>
                </a:lnTo>
                <a:lnTo>
                  <a:pt x="21202" y="1400"/>
                </a:lnTo>
                <a:close/>
              </a:path>
              <a:path fill="darkenLess" w="22602" h="21600">
                <a:moveTo>
                  <a:pt x="22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2" y="20200"/>
                </a:lnTo>
                <a:close/>
              </a:path>
              <a:path fill="lighten" w="22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02" h="21600">
                <a:moveTo>
                  <a:pt x="11301" y="3837"/>
                </a:moveTo>
                <a:lnTo>
                  <a:pt x="13877" y="6448"/>
                </a:ln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lnTo>
                  <a:pt x="18264" y="10800"/>
                </a:lnTo>
                <a:lnTo>
                  <a:pt x="16610" y="10800"/>
                </a:lnTo>
                <a:lnTo>
                  <a:pt x="16610" y="17989"/>
                </a:lnTo>
                <a:lnTo>
                  <a:pt x="5992" y="17989"/>
                </a:lnTo>
                <a:lnTo>
                  <a:pt x="5992" y="10800"/>
                </a:lnTo>
                <a:lnTo>
                  <a:pt x="4338" y="10800"/>
                </a:lnTo>
                <a:close/>
              </a:path>
              <a:path fill="darkenLess" w="22602" h="21600">
                <a:moveTo>
                  <a:pt x="13877" y="6448"/>
                </a:moveTo>
                <a:lnTo>
                  <a:pt x="13877" y="4707"/>
                </a:lnTo>
                <a:lnTo>
                  <a:pt x="15653" y="4707"/>
                </a:lnTo>
                <a:lnTo>
                  <a:pt x="15653" y="8224"/>
                </a:lnTo>
                <a:close/>
              </a:path>
              <a:path fill="darkenLess" w="22602" h="21600">
                <a:moveTo>
                  <a:pt x="10378" y="14299"/>
                </a:moveTo>
                <a:lnTo>
                  <a:pt x="12223" y="14299"/>
                </a:lnTo>
                <a:lnTo>
                  <a:pt x="12223" y="17989"/>
                </a:lnTo>
                <a:lnTo>
                  <a:pt x="16610" y="17989"/>
                </a:lnTo>
                <a:lnTo>
                  <a:pt x="16610" y="10800"/>
                </a:lnTo>
                <a:lnTo>
                  <a:pt x="5992" y="10800"/>
                </a:lnTo>
                <a:lnTo>
                  <a:pt x="5992" y="17989"/>
                </a:lnTo>
                <a:lnTo>
                  <a:pt x="10378" y="17989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1116000" y="242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. 47-53  Упр9 (9) стр. 12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Управляющая кнопка: домой 3"/>
          <p:cNvSpPr/>
          <p:nvPr/>
        </p:nvSpPr>
        <p:spPr>
          <a:xfrm>
            <a:off x="8028000" y="6021360"/>
            <a:ext cx="720720" cy="836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836640"/>
              <a:gd name="textAreaBottom" fmla="*/ 790200 h 836640"/>
            </a:gdLst>
            <a:ahLst/>
            <a:rect l="textAreaLeft" t="textAreaTop" r="textAreaRight" b="textAreaBottom"/>
            <a:pathLst>
              <a:path w="21600" h="25072">
                <a:moveTo>
                  <a:pt x="0" y="0"/>
                </a:moveTo>
                <a:lnTo>
                  <a:pt x="21600" y="0"/>
                </a:lnTo>
                <a:lnTo>
                  <a:pt x="21600" y="25072"/>
                </a:lnTo>
                <a:lnTo>
                  <a:pt x="0" y="25072"/>
                </a:lnTo>
                <a:close/>
              </a:path>
              <a:path fill="lightenLess" w="21600" h="250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2">
                <a:moveTo>
                  <a:pt x="21600" y="0"/>
                </a:moveTo>
                <a:lnTo>
                  <a:pt x="21600" y="25072"/>
                </a:lnTo>
                <a:lnTo>
                  <a:pt x="20200" y="23672"/>
                </a:lnTo>
                <a:lnTo>
                  <a:pt x="20200" y="1400"/>
                </a:lnTo>
                <a:close/>
              </a:path>
              <a:path fill="darkenLess" w="21600" h="25072">
                <a:moveTo>
                  <a:pt x="21600" y="25072"/>
                </a:moveTo>
                <a:lnTo>
                  <a:pt x="0" y="25072"/>
                </a:lnTo>
                <a:lnTo>
                  <a:pt x="1400" y="23672"/>
                </a:lnTo>
                <a:lnTo>
                  <a:pt x="20200" y="23672"/>
                </a:lnTo>
                <a:close/>
              </a:path>
              <a:path fill="lighten" w="21600" h="25072">
                <a:moveTo>
                  <a:pt x="0" y="250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2"/>
                </a:lnTo>
                <a:close/>
              </a:path>
              <a:path fill="darken" w="21600" h="25072">
                <a:moveTo>
                  <a:pt x="10800" y="5573"/>
                </a:moveTo>
                <a:lnTo>
                  <a:pt x="13376" y="8184"/>
                </a:ln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lnTo>
                  <a:pt x="17763" y="12536"/>
                </a:lnTo>
                <a:lnTo>
                  <a:pt x="16109" y="12536"/>
                </a:lnTo>
                <a:lnTo>
                  <a:pt x="16109" y="19725"/>
                </a:lnTo>
                <a:lnTo>
                  <a:pt x="5491" y="19725"/>
                </a:lnTo>
                <a:lnTo>
                  <a:pt x="5491" y="12536"/>
                </a:lnTo>
                <a:lnTo>
                  <a:pt x="3837" y="12536"/>
                </a:lnTo>
                <a:close/>
              </a:path>
              <a:path fill="darkenLess" w="21600" h="25072">
                <a:moveTo>
                  <a:pt x="13376" y="8184"/>
                </a:moveTo>
                <a:lnTo>
                  <a:pt x="13376" y="6444"/>
                </a:lnTo>
                <a:lnTo>
                  <a:pt x="15152" y="6444"/>
                </a:lnTo>
                <a:lnTo>
                  <a:pt x="15152" y="9960"/>
                </a:lnTo>
                <a:close/>
              </a:path>
              <a:path fill="darkenLess" w="21600" h="25072">
                <a:moveTo>
                  <a:pt x="9877" y="16035"/>
                </a:moveTo>
                <a:lnTo>
                  <a:pt x="11723" y="16035"/>
                </a:lnTo>
                <a:lnTo>
                  <a:pt x="11723" y="19725"/>
                </a:lnTo>
                <a:lnTo>
                  <a:pt x="16109" y="19725"/>
                </a:lnTo>
                <a:lnTo>
                  <a:pt x="16109" y="12536"/>
                </a:lnTo>
                <a:lnTo>
                  <a:pt x="5491" y="12536"/>
                </a:lnTo>
                <a:lnTo>
                  <a:pt x="5491" y="19725"/>
                </a:lnTo>
                <a:lnTo>
                  <a:pt x="9877" y="1972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66"/>
                </a:solidFill>
                <a:latin typeface="Comic Sans MS"/>
              </a:rPr>
              <a:t>содержани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Виды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 сохранения энерг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Примеры решения задач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684360" y="76500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Если тело или система тел могут совершить работу, то говорят, что они обладают энергией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127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ОБОЗНАЧАЕТСЯ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348000" y="2205000"/>
            <a:ext cx="33116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95640" y="198900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itannic Bold"/>
              </a:rPr>
              <a:t>E</a:t>
            </a:r>
            <a:r>
              <a:rPr b="0" lang="en-US" sz="8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378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ЭНЕРГИЯ</a:t>
            </a:r>
            <a:r>
              <a:rPr b="0" lang="ru-RU" sz="40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cc0066"/>
                </a:solidFill>
                <a:latin typeface="Comic Sans MS"/>
              </a:rPr>
              <a:t>ИЗМЕРЯЕТСЯ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564000" y="4724280"/>
            <a:ext cx="26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Britannic Bold"/>
              </a:rPr>
              <a:t>Дж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Управляющая кнопка: домой 1">
            <a:hlinkClick r:id="rId1" action="ppaction://hlinksldjump"/>
          </p:cNvPr>
          <p:cNvSpPr/>
          <p:nvPr/>
        </p:nvSpPr>
        <p:spPr>
          <a:xfrm>
            <a:off x="8317080" y="6237360"/>
            <a:ext cx="576000" cy="62064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20640"/>
              <a:gd name="textAreaBottom" fmla="*/ 583560 h 620640"/>
            </a:gdLst>
            <a:ahLst/>
            <a:rect l="textAreaLeft" t="textAreaTop" r="textAreaRight" b="textAreaBottom"/>
            <a:pathLst>
              <a:path w="21600" h="23273">
                <a:moveTo>
                  <a:pt x="0" y="0"/>
                </a:moveTo>
                <a:lnTo>
                  <a:pt x="21600" y="0"/>
                </a:lnTo>
                <a:lnTo>
                  <a:pt x="21600" y="23273"/>
                </a:lnTo>
                <a:lnTo>
                  <a:pt x="0" y="23273"/>
                </a:lnTo>
                <a:close/>
              </a:path>
              <a:path fill="lightenLess" w="21600" h="232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73">
                <a:moveTo>
                  <a:pt x="21600" y="0"/>
                </a:moveTo>
                <a:lnTo>
                  <a:pt x="21600" y="23273"/>
                </a:lnTo>
                <a:lnTo>
                  <a:pt x="20200" y="21873"/>
                </a:lnTo>
                <a:lnTo>
                  <a:pt x="20200" y="1400"/>
                </a:lnTo>
                <a:close/>
              </a:path>
              <a:path fill="darkenLess" w="21600" h="23273">
                <a:moveTo>
                  <a:pt x="21600" y="23273"/>
                </a:moveTo>
                <a:lnTo>
                  <a:pt x="0" y="23273"/>
                </a:lnTo>
                <a:lnTo>
                  <a:pt x="1400" y="21873"/>
                </a:lnTo>
                <a:lnTo>
                  <a:pt x="20200" y="21873"/>
                </a:lnTo>
                <a:close/>
              </a:path>
              <a:path fill="lighten" w="21600" h="23273">
                <a:moveTo>
                  <a:pt x="0" y="232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73"/>
                </a:lnTo>
                <a:close/>
              </a:path>
              <a:path fill="darken" w="21600" h="23273">
                <a:moveTo>
                  <a:pt x="10800" y="4674"/>
                </a:moveTo>
                <a:lnTo>
                  <a:pt x="13376" y="7285"/>
                </a:ln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lnTo>
                  <a:pt x="17763" y="11636"/>
                </a:lnTo>
                <a:lnTo>
                  <a:pt x="16109" y="11636"/>
                </a:lnTo>
                <a:lnTo>
                  <a:pt x="16109" y="18826"/>
                </a:lnTo>
                <a:lnTo>
                  <a:pt x="5491" y="18826"/>
                </a:lnTo>
                <a:lnTo>
                  <a:pt x="5491" y="11636"/>
                </a:lnTo>
                <a:lnTo>
                  <a:pt x="3837" y="11636"/>
                </a:lnTo>
                <a:close/>
              </a:path>
              <a:path fill="darkenLess" w="21600" h="23273">
                <a:moveTo>
                  <a:pt x="13376" y="7285"/>
                </a:moveTo>
                <a:lnTo>
                  <a:pt x="13376" y="5544"/>
                </a:lnTo>
                <a:lnTo>
                  <a:pt x="15152" y="5544"/>
                </a:lnTo>
                <a:lnTo>
                  <a:pt x="15152" y="9060"/>
                </a:lnTo>
                <a:close/>
              </a:path>
              <a:path fill="darkenLess" w="21600" h="23273">
                <a:moveTo>
                  <a:pt x="9877" y="15135"/>
                </a:moveTo>
                <a:lnTo>
                  <a:pt x="11723" y="15135"/>
                </a:lnTo>
                <a:lnTo>
                  <a:pt x="11723" y="18826"/>
                </a:lnTo>
                <a:lnTo>
                  <a:pt x="16109" y="18826"/>
                </a:lnTo>
                <a:lnTo>
                  <a:pt x="16109" y="11636"/>
                </a:lnTo>
                <a:lnTo>
                  <a:pt x="5491" y="11636"/>
                </a:lnTo>
                <a:lnTo>
                  <a:pt x="5491" y="18826"/>
                </a:lnTo>
                <a:lnTo>
                  <a:pt x="9877" y="18826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mph" presetID="2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73" dur="50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5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61,112)"/>
                                      </p:to>
                                    </p:set>
                                    <p:set>
                                      <p:cBhvr>
                                        <p:cTn id="86" dur="500" autoRev="1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Кинетическ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79280" y="17002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движущегося тел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2"/>
              <p:cNvSpPr txBox="1"/>
              <p:nvPr/>
            </p:nvSpPr>
            <p:spPr>
              <a:xfrm>
                <a:off x="2050920" y="2190600"/>
                <a:ext cx="4897440" cy="299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95280" y="177336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энергия взаимодействия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1547640" y="3357720"/>
                <a:ext cx="5977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п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Потенциальная энергия упругой деформаци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268360" y="1901880"/>
                <a:ext cx="421992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4" name="пружина.avi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85" name="Управляющая кнопка: домой 1">
            <a:hlinkClick r:id="rId2" action="ppaction://hlinksldjump"/>
          </p:cNvPr>
          <p:cNvSpPr/>
          <p:nvPr/>
        </p:nvSpPr>
        <p:spPr>
          <a:xfrm>
            <a:off x="8317080" y="6165720"/>
            <a:ext cx="576000" cy="69228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692280"/>
              <a:gd name="textAreaBottom" fmla="*/ 655200 h 692280"/>
            </a:gdLst>
            <a:ahLst/>
            <a:rect l="textAreaLeft" t="textAreaTop" r="textAreaRight" b="textAreaBottom"/>
            <a:pathLst>
              <a:path w="21600" h="25958">
                <a:moveTo>
                  <a:pt x="0" y="0"/>
                </a:moveTo>
                <a:lnTo>
                  <a:pt x="21600" y="0"/>
                </a:lnTo>
                <a:lnTo>
                  <a:pt x="21600" y="25958"/>
                </a:lnTo>
                <a:lnTo>
                  <a:pt x="0" y="25958"/>
                </a:lnTo>
                <a:close/>
              </a:path>
              <a:path fill="lightenLess" w="21600" h="259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8">
                <a:moveTo>
                  <a:pt x="21600" y="0"/>
                </a:moveTo>
                <a:lnTo>
                  <a:pt x="21600" y="25958"/>
                </a:lnTo>
                <a:lnTo>
                  <a:pt x="20200" y="24558"/>
                </a:lnTo>
                <a:lnTo>
                  <a:pt x="20200" y="1400"/>
                </a:lnTo>
                <a:close/>
              </a:path>
              <a:path fill="darkenLess" w="21600" h="25958">
                <a:moveTo>
                  <a:pt x="21600" y="25958"/>
                </a:moveTo>
                <a:lnTo>
                  <a:pt x="0" y="25958"/>
                </a:lnTo>
                <a:lnTo>
                  <a:pt x="1400" y="24558"/>
                </a:lnTo>
                <a:lnTo>
                  <a:pt x="20200" y="24558"/>
                </a:lnTo>
                <a:close/>
              </a:path>
              <a:path fill="lighten" w="21600" h="25958">
                <a:moveTo>
                  <a:pt x="0" y="259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8"/>
                </a:lnTo>
                <a:close/>
              </a:path>
              <a:path fill="darken" w="21600" h="25958">
                <a:moveTo>
                  <a:pt x="10800" y="6016"/>
                </a:moveTo>
                <a:lnTo>
                  <a:pt x="13376" y="8627"/>
                </a:ln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lnTo>
                  <a:pt x="17763" y="12979"/>
                </a:lnTo>
                <a:lnTo>
                  <a:pt x="16109" y="12979"/>
                </a:lnTo>
                <a:lnTo>
                  <a:pt x="16109" y="20168"/>
                </a:lnTo>
                <a:lnTo>
                  <a:pt x="5491" y="20168"/>
                </a:lnTo>
                <a:lnTo>
                  <a:pt x="5491" y="12979"/>
                </a:lnTo>
                <a:lnTo>
                  <a:pt x="3837" y="12979"/>
                </a:lnTo>
                <a:close/>
              </a:path>
              <a:path fill="darkenLess" w="21600" h="25958">
                <a:moveTo>
                  <a:pt x="13376" y="8627"/>
                </a:moveTo>
                <a:lnTo>
                  <a:pt x="13376" y="6886"/>
                </a:lnTo>
                <a:lnTo>
                  <a:pt x="15152" y="6886"/>
                </a:lnTo>
                <a:lnTo>
                  <a:pt x="15152" y="10403"/>
                </a:lnTo>
                <a:close/>
              </a:path>
              <a:path fill="darkenLess" w="21600" h="25958">
                <a:moveTo>
                  <a:pt x="9877" y="16478"/>
                </a:moveTo>
                <a:lnTo>
                  <a:pt x="11723" y="16478"/>
                </a:lnTo>
                <a:lnTo>
                  <a:pt x="11723" y="20168"/>
                </a:lnTo>
                <a:lnTo>
                  <a:pt x="16109" y="20168"/>
                </a:lnTo>
                <a:lnTo>
                  <a:pt x="16109" y="12979"/>
                </a:lnTo>
                <a:lnTo>
                  <a:pt x="5491" y="12979"/>
                </a:lnTo>
                <a:lnTo>
                  <a:pt x="5491" y="20168"/>
                </a:lnTo>
                <a:lnTo>
                  <a:pt x="9877" y="20168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кон сохранен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я </a:t>
            </a: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энергии</a:t>
            </a:r>
            <a:r>
              <a:rPr b="0" lang="ru-RU" sz="4400" spc="-1" strike="noStrike">
                <a:solidFill>
                  <a:srgbClr val="cc0066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50920" y="1989000"/>
            <a:ext cx="806616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 замкнутой системе, в которой действуют </a:t>
            </a:r>
            <a:r>
              <a:rPr b="0" lang="ru-RU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консервативные силы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, энергия ни от куда не возникает и ни куда не исчезает, а лишь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ереходит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из одного вида в друго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Управляющая кнопка: домой 1">
            <a:hlinkClick r:id="rId2" action="ppaction://hlinksldjump"/>
          </p:cNvPr>
          <p:cNvSpPr/>
          <p:nvPr/>
        </p:nvSpPr>
        <p:spPr>
          <a:xfrm>
            <a:off x="8532720" y="6237360"/>
            <a:ext cx="611280" cy="620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20640"/>
              <a:gd name="textAreaBottom" fmla="*/ 581040 h 620640"/>
            </a:gdLst>
            <a:ahLst/>
            <a:rect l="textAreaLeft" t="textAreaTop" r="textAreaRight" b="textAreaBottom"/>
            <a:pathLst>
              <a:path w="21600" h="21931">
                <a:moveTo>
                  <a:pt x="0" y="0"/>
                </a:moveTo>
                <a:lnTo>
                  <a:pt x="21600" y="0"/>
                </a:lnTo>
                <a:lnTo>
                  <a:pt x="21600" y="21931"/>
                </a:lnTo>
                <a:lnTo>
                  <a:pt x="0" y="21931"/>
                </a:lnTo>
                <a:close/>
              </a:path>
              <a:path fill="lightenLess" w="21600" h="219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31">
                <a:moveTo>
                  <a:pt x="21600" y="0"/>
                </a:moveTo>
                <a:lnTo>
                  <a:pt x="21600" y="21931"/>
                </a:lnTo>
                <a:lnTo>
                  <a:pt x="20200" y="20531"/>
                </a:lnTo>
                <a:lnTo>
                  <a:pt x="20200" y="1400"/>
                </a:lnTo>
                <a:close/>
              </a:path>
              <a:path fill="darkenLess" w="21600" h="21931">
                <a:moveTo>
                  <a:pt x="21600" y="21931"/>
                </a:moveTo>
                <a:lnTo>
                  <a:pt x="0" y="21931"/>
                </a:lnTo>
                <a:lnTo>
                  <a:pt x="1400" y="20531"/>
                </a:lnTo>
                <a:lnTo>
                  <a:pt x="20200" y="20531"/>
                </a:lnTo>
                <a:close/>
              </a:path>
              <a:path fill="lighten" w="21600" h="21931">
                <a:moveTo>
                  <a:pt x="0" y="219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31"/>
                </a:lnTo>
                <a:close/>
              </a:path>
              <a:path fill="darken" w="21600" h="21931">
                <a:moveTo>
                  <a:pt x="10800" y="4002"/>
                </a:moveTo>
                <a:lnTo>
                  <a:pt x="13376" y="6613"/>
                </a:ln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lnTo>
                  <a:pt x="17763" y="10965"/>
                </a:lnTo>
                <a:lnTo>
                  <a:pt x="16109" y="10965"/>
                </a:lnTo>
                <a:lnTo>
                  <a:pt x="16109" y="18155"/>
                </a:lnTo>
                <a:lnTo>
                  <a:pt x="5491" y="18155"/>
                </a:lnTo>
                <a:lnTo>
                  <a:pt x="5491" y="10965"/>
                </a:lnTo>
                <a:lnTo>
                  <a:pt x="3837" y="10965"/>
                </a:lnTo>
                <a:close/>
              </a:path>
              <a:path fill="darkenLess" w="21600" h="21931">
                <a:moveTo>
                  <a:pt x="13376" y="6613"/>
                </a:moveTo>
                <a:lnTo>
                  <a:pt x="13376" y="4873"/>
                </a:lnTo>
                <a:lnTo>
                  <a:pt x="15152" y="4873"/>
                </a:lnTo>
                <a:lnTo>
                  <a:pt x="15152" y="8389"/>
                </a:lnTo>
                <a:close/>
              </a:path>
              <a:path fill="darkenLess" w="21600" h="21931">
                <a:moveTo>
                  <a:pt x="9877" y="14464"/>
                </a:moveTo>
                <a:lnTo>
                  <a:pt x="11723" y="14464"/>
                </a:lnTo>
                <a:lnTo>
                  <a:pt x="11723" y="18155"/>
                </a:lnTo>
                <a:lnTo>
                  <a:pt x="16109" y="18155"/>
                </a:lnTo>
                <a:lnTo>
                  <a:pt x="16109" y="10965"/>
                </a:lnTo>
                <a:lnTo>
                  <a:pt x="5491" y="10965"/>
                </a:lnTo>
                <a:lnTo>
                  <a:pt x="5491" y="18155"/>
                </a:lnTo>
                <a:lnTo>
                  <a:pt x="9877" y="18155"/>
                </a:lnTo>
                <a:close/>
              </a:path>
            </a:pathLst>
          </a:cu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Line 4"/>
          <p:cNvSpPr/>
          <p:nvPr/>
        </p:nvSpPr>
        <p:spPr>
          <a:xfrm>
            <a:off x="755640" y="1125360"/>
            <a:ext cx="237636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3132000" y="1125000"/>
            <a:ext cx="0" cy="446436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79640" y="5589720"/>
            <a:ext cx="6121440" cy="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3348000" y="476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3348000" y="4941720"/>
            <a:ext cx="649440" cy="648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340000" y="2708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140360" y="4762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=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x  E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=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3348000" y="2708280"/>
            <a:ext cx="649440" cy="647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4211640" y="486900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0  Ек=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4140360" y="263700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=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4140360" y="1700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Line 18"/>
          <p:cNvSpPr/>
          <p:nvPr/>
        </p:nvSpPr>
        <p:spPr>
          <a:xfrm>
            <a:off x="500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43564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20"/>
          <p:cNvSpPr/>
          <p:nvPr/>
        </p:nvSpPr>
        <p:spPr>
          <a:xfrm flipV="1">
            <a:off x="6372360" y="1773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21"/>
          <p:cNvSpPr/>
          <p:nvPr/>
        </p:nvSpPr>
        <p:spPr>
          <a:xfrm>
            <a:off x="3276720" y="404640"/>
            <a:ext cx="7207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6.7052E-006 L 6.94444E-006 0.18868 E">
                                      <p:cBhvr>
                                        <p:cTn id="157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18868 L 3.05556E-006 0.34613 E">
                                      <p:cBhvr>
                                        <p:cTn id="182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34613 L 3.05556E-006 0.66081 E">
                                      <p:cBhvr>
                                        <p:cTn id="193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20:34:41Z</dcterms:created>
  <dc:creator>JURA</dc:creator>
  <dc:description/>
  <dc:language>en-US</dc:language>
  <cp:lastModifiedBy>LEGION</cp:lastModifiedBy>
  <dcterms:modified xsi:type="dcterms:W3CDTF">2015-03-30T08:52:11Z</dcterms:modified>
  <cp:revision>20</cp:revision>
  <dc:subject/>
  <dc:title>Механическая энергия</dc:title>
</cp:coreProperties>
</file>